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AE32-A904-49EA-8D0D-F704A7947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91FF-0A5C-4BE5-8FBF-572F031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35447-5EE0-4BC1-B1CE-B65915E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E87F2-3023-4AA7-823E-647AAE719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C4AD-0C1D-410E-AC8C-5F10697E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33AC-A1B9-4885-BDC8-8B8204B0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C3AF-4398-4B1B-B688-184C6E90DD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CFC3D-81D5-4937-A052-F6B81FB1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03F39-AD11-418D-8523-8C307FE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D72B1-3F49-49C2-9963-CC6C1ED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BAB4F-6B58-440C-8F14-C5833DF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4ACF9-673F-4753-8B24-B242B380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EB5E4-F68D-426C-BA71-7D3CE2B2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43AB0-B197-4E32-8ADF-CC35BAC7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F196C-0BF1-4F79-A347-4620E9CE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A5315-D77E-4A88-8251-8FD1A5F1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FB00F-A74C-4062-AC18-3E0FA172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E03DB-0217-4F7E-8636-55E1FA3C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2015E-3DEE-4DBD-80B4-EB348F63A5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CF7E-8E87-4183-9FEC-89AE6924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ECA61-A985-45DE-BE22-70221EA3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120C-9C60-4802-88A9-2EB70AE1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7237D-D178-4DBA-BCD6-78E4D4CC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E31A-F834-440D-A8D0-18B9315D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D2A0-BE8F-4C0B-9614-F2112DB23F9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D51-3ACC-4F7A-B53E-DE2278F20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2ACA-521F-4AE6-A582-E011A7269AF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4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BF8E-B812-4DD1-9258-573734D5D78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IEEE_125_cmyk.png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.joelillie.com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Joe Lilli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ndidate for 2010 IEEE President Elec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06632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Focus o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Region 8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Venice, Ita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2"/>
                </a:solidFill>
                <a:latin typeface="Verdana"/>
              </a:rPr>
              <a:t>26 April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52280" y="5638680"/>
            <a:ext cx="8001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Presentation Overview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M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Busi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th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kill Asse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ship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provide direction and gui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build consensus among diverse constitu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ten and oral communication skills and organizational 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interpersonal skills with sensitivity to cross-cultural and transnati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ility to conduct effective negotiations involving financial and policy ma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Qualific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 years experience in telecommunications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EEE Member since joining as a student in 197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der at the local, region and international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t the OU Board level since 199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ing my sixth year on the IEEE Board of Dire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seven years on the IEEE Finance Committee, two years as Chair and IEEE Trea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Vice President – Member &amp; Geographic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llingness to serve IEEE, the profession, and the common g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Member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Eng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ety Member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ng members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ber Life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Busines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ff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rastructure Eval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 Excel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Focus on the Oper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tegic Planning and Alig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nteer / Staff Relationsh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nsus buil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ignment of the Board and the Executive Dir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m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tribution to the success of the IE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Thank you for your consideration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I would appreciate your help, your support and your vote.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ieee.joelillie.com</a:t>
            </a:r>
            <a:br>
              <a:rPr sz="3200"/>
            </a:br>
            <a:r>
              <a:rPr b="1" lang="en-US" sz="3200" spc="-1" strike="noStrike" u="sng">
                <a:solidFill>
                  <a:srgbClr val="005582"/>
                </a:solidFill>
                <a:uFillTx/>
                <a:latin typeface="Verdana"/>
              </a:rPr>
              <a:t>j.lillie@ieee.org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7:28:39Z</dcterms:created>
  <dc:creator>cjankows</dc:creator>
  <dc:description/>
  <dc:language>en-US</dc:language>
  <cp:lastModifiedBy>IEEE</cp:lastModifiedBy>
  <dcterms:modified xsi:type="dcterms:W3CDTF">2009-04-17T19:54:24Z</dcterms:modified>
  <cp:revision>170</cp:revision>
  <dc:subject/>
  <dc:title>TITLE</dc:title>
</cp:coreProperties>
</file>